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83C-1B32-4690-94F1-0F88978E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028-352E-4B47-9665-6E44420A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4FA-0BBD-4BF7-B44A-01C3F017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F17-A47D-486A-B5EE-C5F7421A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0EB-6E51-4758-8570-4D60DF8E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162-738F-4616-B9A4-78B5B1BA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CAC-3C8E-4151-9C2C-83F0C281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9B1-8CC2-491B-A4DC-4CCA2F77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88F-64AE-41AB-A62F-26641E25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42F-79DD-4D91-897D-8C302D4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01B-AD10-4198-8420-EE49C8D7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F02-CF54-496E-AA3C-7C52EDAB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6EDE-992F-4F21-A5CB-DD8D67CFAE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REPUBLICAN EXPERIMENT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Chapter 6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estern Land: 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ey to the First Constitu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gained ownership of all land west of Appalach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Ordinance, 17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derly division of land into sections and townshi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section set aside to finance school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nd to sell for minimum of $1 gold per ac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Ordinance, 17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three to five new territories in Northw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ulation of 5,000 may elect Assemb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ulation of 60,000 may petition for stateh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ill of Rights provi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lavery outlaw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8" descr="DIVI119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422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DIVI7233117"/>
          <p:cNvPicPr/>
          <p:nvPr/>
        </p:nvPicPr>
        <p:blipFill>
          <a:blip r:embed="rId3"/>
          <a:stretch/>
        </p:blipFill>
        <p:spPr>
          <a:xfrm>
            <a:off x="2057400" y="1371600"/>
            <a:ext cx="504360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Nationalist Critiqu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begin to believe a stronger central government would restore economic, political and social disorder (Shay’s Rebell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ation of trade with Britain caused trade deficit and hard currency shor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unable to address issues (example no power to t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failed to get states to collect debts owed British merch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retaliation, British refused to evacuate Ohio River Val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 (shutting down Mississippi 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606"/>
                </a:solidFill>
                <a:latin typeface="Arial"/>
              </a:rPr>
              <a:t>The Philadelphia Conven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Convened May 178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Fifty-five delegates from all states except Rhode Is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Were to only revise Articles but instead revamped the whole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Vote by state, needed only a majority instead of nin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Content Placeholder 3" descr="DSC01383.jpg"/>
          <p:cNvPicPr/>
          <p:nvPr/>
        </p:nvPicPr>
        <p:blipFill>
          <a:blip r:embed="rId2"/>
          <a:srcRect l="-18181" t="0" r="-18181" b="0"/>
          <a:stretch/>
        </p:blipFill>
        <p:spPr>
          <a:xfrm>
            <a:off x="-262080" y="1219320"/>
            <a:ext cx="969984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itical Peri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ginia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ameral legislature of state represent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house elected, the other appo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r states would have more representativ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Jersey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e would have one vote in a unicameral legis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ticles of Confederation otherwise untouch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romise Saves the Conven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ate given two delegates in the Senate—a victory for the small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 of Representatives based on population—a victory for the larg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oney bills must originate in th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-fifths of the slave population counted toward representation in th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DIVI7233TB601"/>
          <p:cNvPicPr/>
          <p:nvPr/>
        </p:nvPicPr>
        <p:blipFill>
          <a:blip r:embed="rId2"/>
          <a:srcRect l="0" t="0" r="0" b="1380"/>
          <a:stretch/>
        </p:blipFill>
        <p:spPr>
          <a:xfrm>
            <a:off x="68580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Last Detai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ions to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oral College selects president, veto over legislation, and executive may appoint 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that Bill of Rights unnecessary at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en amendments added by December 1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 was to protect individua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Point of Vi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deral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the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a strong central gover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Federalist 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-Federal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ed to the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usted any government removed from direct control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pected the new Constitution favored the rich and powerf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atification of the Constit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" name="Picture 4" descr="DIVI7233124"/>
          <p:cNvPicPr/>
          <p:nvPr/>
        </p:nvPicPr>
        <p:blipFill>
          <a:blip r:embed="rId2"/>
          <a:stretch/>
        </p:blipFill>
        <p:spPr>
          <a:xfrm>
            <a:off x="990720" y="1447920"/>
            <a:ext cx="7146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rain Sc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es in America lose close to 300 billion a year because of this?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ving the closed sign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spend 2 years of your life waiting for this to happen?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ing for the food you or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women can do this for only 47 hours?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 secr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uestion to think about…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680" y="1676520"/>
            <a:ext cx="854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here the words “Founding Fathers” what comes to m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fining Republican Culture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ism—new core id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promising commitment to liberty and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vernment without a monarchy and aristocr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Revolutionary di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ing individual liberty with social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ing property rights with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at’s Weir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00 years ago, most Egyptians were considered old and died by the age of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arly Rome, a father could legally execute any member of his house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owner of the Marlboro cigarette company died of lung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last 3,500 years, it is estimated that the world has had a grand total of 230 years in which no wars took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cial and Political Refor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2174760"/>
            <a:ext cx="4268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litionist sentiment spread in wake of the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1800, slavery legally dying in No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therners debated abolition but economic motives (Cotton gin) overcame republican ide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demanded the natural right of 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tured proper values through “Republican Motherhood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men more assertive in divorce, economic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tical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ution introduced unintended changes into American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ty qualifications for voting redu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itals moved to enable better representation for frontier sett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 of church and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tates: Experiments in Republicanis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utionary state constitutions served as experiments in republican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ights from state experiences later applied to constructing central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constitutions guaranteed natura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religion, speech, press, private property, etc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ed state legislatures given mos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constitutions were written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rain Sc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ys will let mom buy this for them until they are 19.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w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dies, if you have one of these it adds about 7 hours of extra house work for you on a daily basis.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b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ll times you are only 6 feet away from one of these.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765440"/>
            <a:ext cx="830556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Articles of Confederation severely limited central government’s authority ov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Each state had one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No execu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No tax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Amendments required unani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In charge of foreign and Native American relations, military, and disputes between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No wester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3:54:38Z</dcterms:created>
  <dc:creator/>
  <dc:description/>
  <dc:language>en-US</dc:language>
  <cp:lastModifiedBy>Buffalo Grive High School</cp:lastModifiedBy>
  <dcterms:modified xsi:type="dcterms:W3CDTF">2012-09-24T01:31:22Z</dcterms:modified>
  <cp:revision>24</cp:revision>
  <dc:subject/>
  <dc:title>Chapter 6 THE REPUBLICAN EXPERIMENT A New Political Morality</dc:title>
</cp:coreProperties>
</file>